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2040-56FE-4158-B58D-9F39AA5D665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ens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s in the opposite direction to the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Normal reaction for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592-0140-48AD-AF52-E2862849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C38-43B7-4A7D-A613-ED2996F0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08D0-D15F-4A2E-8D36-53578E57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2F0-A3C1-4E71-99A0-C7BF2E23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5995-7704-43E2-8AE7-896DCD8F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3720-DCC8-4579-9D10-39B22004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80F6-D6EF-4B30-9187-1AFAC70E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2799-2C5E-4EB6-9BCC-A0CC6D2C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251D-F123-4D56-A383-1F54DAB9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E05F-09C1-4686-B139-3C854564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881F-12F3-4E9C-BD3F-1FF44595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285-0DC3-4A36-9791-F5A19AE6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9BB9-B243-4B50-9C6B-C53E4C30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D1C6-CD0E-48DA-A57C-D757F93A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F45B-1AFF-4DCC-B141-99102AE4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F3FC-079F-4201-9367-F7B3FF93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2677-4AB2-47D4-A418-5641066A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D15-1855-4196-BC0E-69D4C307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0A2-015A-4A43-BD63-4EDC31EF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C6D4-EBBD-4E69-AE4A-E69CE12E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FED2-7052-4551-A583-6EDBD18B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1CE-8D82-4A53-A26D-8236788E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07ED-4835-45D1-9A00-3DC37994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18F4-6DAF-4995-8190-E8736739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AF4C-CB8E-4E57-9607-C9EEDA58630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8253-8275-4314-AE1B-FB4AFD5341ED}" type="slidenum">
              <a:rPr b="0" lang="en-GB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3640" y="2197080"/>
            <a:ext cx="4465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123e96"/>
                </a:solidFill>
                <a:latin typeface="Arial Black"/>
              </a:rPr>
              <a:t>FORCES</a:t>
            </a:r>
            <a:endParaRPr b="0" lang="en-US" sz="7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340000" y="3068640"/>
            <a:ext cx="39607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5545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61680" y="33300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hat is a force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eight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Tens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Frict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Air Resistan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Normal reaction for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39607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411280" y="3716280"/>
            <a:ext cx="316872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8:38:34Z</dcterms:created>
  <dc:creator>zafer</dc:creator>
  <dc:description/>
  <cp:keywords/>
  <dc:language>en-US</dc:language>
  <cp:lastModifiedBy>RomaK</cp:lastModifiedBy>
  <dcterms:modified xsi:type="dcterms:W3CDTF">2015-09-03T12:26:30Z</dcterms:modified>
  <cp:revision>3</cp:revision>
  <dc:subject/>
  <dc:title>FOR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